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95A-106B-470D-B758-459E663A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299B-56F6-4D3D-83F2-3F0FCA7A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16B-D32D-4704-ADE1-A0CD8AC1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1829-527D-4498-BD7E-7C8B7FCD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98A7-F4AF-4AD2-9784-91F6E260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ABC4-4560-4E77-922D-736E19AE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1CFB-E5BF-4B5C-881B-928F4396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CC11-A6F0-4BC4-9977-CC1342A6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1385-1C32-41B2-A020-F32DAC10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1567-51BC-40CA-B239-093669FB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875F-82B3-4FB9-8D25-C4E38FD6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B93A-497B-4A15-BB6C-3B68E268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F69E-EA43-41B2-98AB-C79DEA1D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D2B7-05B2-4ACE-BC9D-4C61F899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71CF-F906-4C8F-BF55-FA6E6910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A2FE-1105-4E60-B527-D985DEC2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5EF5-C9A4-4B62-8F2D-D9861532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6CBE-4F18-402D-8E06-5AD1C376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25FC-2EF8-4087-A846-14AFA4FA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F9A-1934-450B-BE00-4FC4B8A6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8D27-29E3-4EDD-9A0F-1E709662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2347-D318-4221-A948-DA44F1FD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78D-466D-4EE8-AEED-3929CE3E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FCC5-602B-4867-97BF-4050C895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1CED-2FCA-4EA2-B59A-B9C922FD3CF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0786-C67A-4825-AE26-FFDD851A140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b9efee"/>
                </a:solidFill>
                <a:latin typeface="Garamond"/>
              </a:rPr>
              <a:t>О профилактике жестокого обращения в отношении несовершеннолетних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340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еминар-совещание с органами местного самоуправления, осуществляющими управление в сфере образов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5:01:39Z</dcterms:created>
  <dc:creator>name</dc:creator>
  <dc:description/>
  <dc:language>en-US</dc:language>
  <cp:lastModifiedBy>name</cp:lastModifiedBy>
  <dcterms:modified xsi:type="dcterms:W3CDTF">2015-09-16T07:24:30Z</dcterms:modified>
  <cp:revision>2</cp:revision>
  <dc:subject/>
  <dc:title>О профилактике жестокого обращения в отношении несовершеннолетних</dc:title>
</cp:coreProperties>
</file>